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244-A3A8-435F-A7FE-B0D705B7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2D8-A338-4499-B3FB-5E43FE3F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34F-BE1D-4407-A701-C9E3AB5F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22F-E1FE-4A5B-A98D-29E945A7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D1F-3745-434D-A594-C6E0C949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036-F61E-4B73-9280-C8744609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ECA-76E6-4DBE-9B40-A1A98024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E9C-87C7-47E3-A1AA-B87FFDCD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DF6-0872-466A-9651-EE973938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D25-698D-4933-83FC-47BD6DAD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EB9-F917-46E2-9AC1-5DB16CE5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388-2A5F-4915-AB0E-1FD305AD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B214-3A1C-4C4A-8877-5ADF2356E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krinskymenachem/3637398582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in flight / Menachem Krinsk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41400"/>
            <a:ext cx="6858000" cy="67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26:20Z</dcterms:created>
  <dc:creator>Patrick J. Mooney</dc:creator>
  <dc:description/>
  <dc:language>en-US</dc:language>
  <cp:lastModifiedBy>Patrick J. Mooney</cp:lastModifiedBy>
  <dcterms:modified xsi:type="dcterms:W3CDTF">2010-03-30T14:30:30Z</dcterms:modified>
  <cp:revision>1</cp:revision>
  <dc:subject/>
  <dc:title>Slide 1</dc:title>
</cp:coreProperties>
</file>